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 в школ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урно-оздоровитель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та в шко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проведению физкультмину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физкультмину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ученика в норме,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изическ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ци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коммуникабелен, общителе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моцион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ебенок уравновешен, способен удивляться и восхищ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интеллекту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нравствен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ризнает основные общечеловеческие ц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ы здоровьесбереж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навред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!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иоритет заботы о здоровье учителя и учаще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прерывность и преемственность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ивные взаимоотношен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лексный, междисциплинарный подхо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спех порождает успе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к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свое здоровь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терии здоровье-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-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циональ-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оч-но 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видов учебной деятел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опрос,письмо,чтение,слуша-ние,рассказ, ответы на вопросы,рас- сматри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сы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7BA-185A-4435-9FAC-448FBF25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B38-56CA-4119-BC01-B8C568B3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591-4969-4723-AB8E-E28E6EFC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DBE-ACD0-4321-AB53-22C73D5E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32A7-C488-4C7D-859D-F365D5C5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6113-160E-4F29-B5B9-AE65ECC7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8F60-94E1-4FEC-8EBB-C8DB7888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ADDB-FE60-4925-A778-5E80F2E8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4F59-A26D-4D2D-83A1-1000EC08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6745-6590-4870-85AF-0D285A7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2F8C-85D5-416A-A381-A82A00B4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396-C8A0-40B5-995C-73AAF742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F7C0-886C-47BC-A0B8-FBA60CD9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5BAA-B566-43F7-9EDB-C93EABA2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80F4-71E3-4D5F-863F-490DDA2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0686-6DA6-4560-816B-CF6B6EA5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7F36-1D35-4776-94EF-AF93AA7B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961-8BC9-4E34-9A03-F983EAE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92F-95BD-431D-AA82-D21CDA3A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3D3-5916-473D-966C-122E3172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661-94D5-4BD6-BBFC-517EE7AF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64A-059F-411A-8F13-DEB60255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E1B-1378-47CF-8C3A-F96FED8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8D9-860E-488B-B847-71049F0B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56B80D-A657-4C39-8775-E96F245F479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BAA855-EB0A-42E4-B167-E4855165E01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в школе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38320" y="4876560"/>
            <a:ext cx="35053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158760"/>
            <a:ext cx="7561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295280" y="1646280"/>
          <a:ext cx="746784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46280"/>
                    <a:ext cx="7467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0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561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467840" cy="414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изкультурно-оздоровительная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работа в школ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295280" y="4191120"/>
          <a:ext cx="3124440" cy="23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312444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5257800" y="1600200"/>
          <a:ext cx="327672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600200"/>
                    <a:ext cx="3276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5257800" y="4114800"/>
          <a:ext cx="327672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14800"/>
                    <a:ext cx="3276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295280" y="1739880"/>
            <a:ext cx="3200400" cy="2529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944800" cy="2208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"/>
          <p:cNvPicPr/>
          <p:nvPr/>
        </p:nvPicPr>
        <p:blipFill>
          <a:blip r:embed="rId2"/>
          <a:stretch/>
        </p:blipFill>
        <p:spPr>
          <a:xfrm>
            <a:off x="4952880" y="426708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2"/>
          <p:cNvPicPr/>
          <p:nvPr/>
        </p:nvPicPr>
        <p:blipFill>
          <a:blip r:embed="rId3"/>
          <a:stretch/>
        </p:blipFill>
        <p:spPr>
          <a:xfrm>
            <a:off x="7086600" y="4267080"/>
            <a:ext cx="1752480" cy="1335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LEGION</cp:lastModifiedBy>
  <dcterms:modified xsi:type="dcterms:W3CDTF">2015-03-31T07:52:43Z</dcterms:modified>
  <cp:revision>17</cp:revision>
  <dc:subject/>
  <dc:title>Презентация PowerPoint</dc:title>
</cp:coreProperties>
</file>